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44E-0861-41FC-89E8-FBAA9DB8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94F-C4D2-46C6-B791-2709CA8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0E809-DAE9-40C3-9216-BECDB63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29536-EA63-4D57-B2BE-948AC296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B2B5-2121-49E8-B2FD-597826A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2A0C-C0D2-4509-81AB-4010404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53FE1-5AF4-4427-AB59-070B1F2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C9E11-657C-4122-A189-DB87B067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9B34B-F3C6-4565-A9F0-FB1F4B4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E8284-1A11-4632-8C2E-21C846CC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0ADF-EAD6-4221-AE1E-BE43534A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B8C7-38A1-4B54-AAB3-1370D910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C9F-CDC2-4343-833F-3846E7B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4714D-0C66-4301-9027-3A8A6860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D3EC5-7972-4979-827D-6655BC1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5D55-5EBA-4C0D-9964-7B56DCF3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AFD5-C938-416D-BBA4-6D990466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6277A-3ABC-49E7-BA00-9E4AB1CE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7E0E6-1150-47FF-9903-9C506FD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D9992-B5BD-4FC1-883C-CADA5095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E103D-FBA8-4D8E-9167-D08908C3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97D9E-BF06-4377-ACAE-2EA54F2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D693E-BB93-482F-9844-EDA69794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053-7F6E-4506-9EEB-A5DAFFA5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BE538-30C0-44D9-BFD8-6397C11C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3A99F-7E96-42D2-B3CB-F4F8F5DF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2DE4-49E6-460D-90C7-E3275DEB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74365-DC5E-4AC3-BABF-E893F3F7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B5F5E-BB75-4120-9985-F877CAF0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E91CB-7685-4D1D-8B83-6680C70E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574A-0F3F-4614-85B8-74372008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AF5B8-AD54-47CE-BE2F-27FD8CB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1E99D-4EDF-4AC4-8A4F-2325538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41207-1F27-474F-AE56-826A9DC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B43-AE8C-4C31-98F2-D25E68BE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77CBA-1C9D-4347-9256-6925690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24868-1AEE-49E3-BB81-5E233E9D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4B501-54B9-4A29-B3FC-4B01C06D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A3C33-D7EA-4096-8D19-D6A57937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903B2-3343-4A59-9D99-D568610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BF088-AB50-4779-8DED-9AFD6DA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4B6BE-350F-437C-8E95-21A1807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7D8A0-5F4E-4081-B45E-1059ECA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86516-EDFF-441E-9597-5902996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5B2A1-934D-43B7-BCBF-AAF2ABF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6003-A9A2-4BDE-B50F-3D1E71C3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7DF59-0B3F-489D-B6F3-0E5CD9E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7ACF5-340F-4C96-8666-DC35AA5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F7269-F91A-4B19-9872-65BE88B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AA9A4-78A1-4025-BC93-A89916E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A978E-0D59-4731-B7BD-3A800C5E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8E00D-A31F-46E1-B17D-42AA27BD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83816-D4A3-417C-A1DA-582670B2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37222-E418-4F06-B905-75CE393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7A419-E7B3-4326-8525-A940050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0AED7-358B-48DF-869D-E2BE951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6C9E-C863-4D0F-A789-7772E1C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92A26-B7E3-4E96-AA4B-4C77C73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F6B83-5803-4BB5-A73F-420CA57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E4ABD-3297-488B-A346-A81DFFB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E71AF-23AE-4324-9B76-B962B0C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9E71-7596-4DAA-B9D7-EBFC97FF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7CCD8-7AEE-40AC-AADD-1D5BDBF2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B701D-2CE3-4BC6-B3B5-3572A9F4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8A9CF-BEB7-4281-861A-B02B53AC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A0A80-CB9F-4134-B5A9-2574E22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10DD3-F4A2-46DF-984B-11D5CC0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B95E-C48F-4139-9670-6E91963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036D6D-F152-4F04-983F-F3091BD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53B7C-E2DE-44C0-81A6-644B6318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B19DF-FDC1-47B6-A7A2-96741F0F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32BF8-067A-4009-BEDE-6AFD5B5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0CB1A-25B1-4A4E-96B6-7942C3C6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E0115-D47A-4F16-AACF-C2FA036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CDF30-7030-416F-AB3B-F6A8E2AD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2FC6D-5107-4A59-AB13-F18E849C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DA6B5-370A-429C-B024-3E176EC1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4DA42-6A13-430F-8EFF-BB82D515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6B3-1895-4E60-BA74-3C0F35A0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C4EAE-8DB3-4E55-9FF7-C8CA475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05133-4FC0-4E03-89A9-F156988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2D024-2886-4957-A820-5C35CD79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64C72-A1F0-452A-98BC-003F6684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E769AF-0433-4D0F-8EFA-F1A7789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B6967-50E2-4025-8959-DD3E93D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90718-FE51-47F8-9D7B-01649DD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2DB4C-15FC-497B-B6F4-D80293C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72986-6631-4D87-831D-16285A7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B0CF4-3FB8-4D87-8225-49263667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DBD-5C7F-46F1-BE52-F72B63C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57071-9A77-48B2-B6ED-E588211E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7F81A-FCF3-429C-9C5E-379B04B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2AE33-2F83-42F3-8257-83F3FEE4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D3F5A-B482-43E1-9A79-1F2563A4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7C21D-CF8C-49AF-A3C1-B1F4EDF9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0B407-6A5D-4564-840A-1DC886C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FA324-D812-4FC7-9A7D-28D97C95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3EC12-1100-4434-94AE-30C1EC9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DE783-8FA6-44EA-85D9-D6DD68D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7875E-D701-4DBF-AF91-D232451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5084-CB3E-4856-A44D-1949C73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9049C-8649-44B3-96B1-02A38621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8EA3A-5CA0-4D5D-896D-BD6C9B81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0CCFE-0732-4E0F-A097-7364B7BF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35C1C-F0BD-4FA4-9455-B2579771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13587-FC3D-402A-8C47-456E2F4D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43E2C-EB8F-455D-AE1D-93333B74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DCED06-C9CB-43F3-B6CC-B67D16BF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DBB7C4-0780-4B72-A943-6F28D65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B33FB-54C7-4BE3-93B0-B9FA196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DAE25-D0A7-444A-B487-AAC1C59D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C8B-6340-4642-B25D-8455651C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5581-BE4D-4BD8-93EC-2F4C1B0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233B6-81AA-42B7-8E11-4A460D6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BD604-922B-423A-B873-8BF216A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B278A-BFEC-4F7A-82EA-4AE2D6BE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CC9AF-1517-4CEA-B6B2-EF818F01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80F9B-CCC6-4B47-B1AA-CCF443DF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48B0B1-17B8-4D83-BD3C-7D130F1A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2AF0B-F102-461D-B0D4-0FA13FB0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1E36E-6021-4DD7-8A27-D9187EB1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C2687-A94D-40A8-9B4F-04577F9C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6BBAF-E90C-4BCF-A66C-8A03A11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5EF6-32F7-4D41-B81B-1559D09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23A44-7269-4B22-B450-CE769E4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837E2-273E-4FF7-AC65-6F6707E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81036-7CA9-40B0-8E0C-1EF1E38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F6F13-D9DE-41C4-8D71-EA5B7B4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81959-D273-461F-BBEC-82D03FAF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92FA88-CEE3-4D55-BBE3-6151640A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77037D-59B7-454A-A8F0-A80205C5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950332-D0EB-4411-9541-5EAE7B89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B52D4-6DB3-4457-ABE5-249FAAE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D541A-2A0F-4FF8-A0CB-BDA63D38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AFFC-98FC-42D6-8648-0442CDF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D10FD-9CFC-4A5F-A044-704E983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1E4E2-B780-4433-922F-12C8988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72EE0-EF70-4D59-93FD-23A08060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1DA0A-A42A-494D-9385-B05CB17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56009-B1C6-4A95-9130-7CAA65A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A5B19-9961-48A8-B89B-CBD9B18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0C198-C5B8-4461-9A08-8A82826E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2E7C3-C214-41E4-8C98-CA133DD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51F0D-5F1B-465B-BC7C-2149FA3C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3D0598-6850-4C63-B361-65EB87DE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4D45-230E-4FD6-ACE4-F570E219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A14B3-FE50-4D20-BCDB-11D0049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411A0-7FBC-422E-8D38-79377E5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CA6175-5EE0-49E7-A42C-4B11F9B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9348C-12FC-4B37-939A-216A6A74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C647F-F114-4683-8FA6-E71748BA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5B8C1-9B5B-4E85-A4AA-7ED5410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8632A-9A76-49EB-807D-9CE6BB4A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13D24-2C02-4197-A034-1C34187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CBE4E-37DF-476D-A552-0E33C1EC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88F80-83F5-455A-93E7-B652743E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3A2-0549-43B4-88E7-E4499A37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00F9A-129A-4FD8-A1D8-5BCD6E9B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A16761-1BB5-4CAE-B0F0-BA812512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D5EB1-2175-4BE2-992C-8A6FBBB4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9DB543-38EC-49DA-A6D1-644C0A8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4A87E-39A3-40B0-9221-D02C663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69A9A-83DC-4D06-8858-411F5E1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DC9C8-923D-42B6-B339-FF3C69F2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AC145-05F3-4C74-A068-AC29EF0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2489C4-E2D6-4CBD-A80F-DB80D85B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764AC-933C-482C-996D-A21FE0F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F055-7223-4D5E-B540-1CCD6AD7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574BD-3E9E-4706-8EBB-89C97A0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13973-CFB1-4515-BF04-D7C53AB7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A8720-B6B6-4577-817A-8DF5416E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8F78B-D943-4687-AD98-28C501C8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5AAAD-2BFC-4F7C-90AD-8502AAC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A5FA7-7EDD-4BF0-BD18-577CD69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942C40-5926-49BC-A434-6902FE0F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781997-D912-4F3C-95FE-8EA174BA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966FE-60BA-41E6-856A-CAB0A1E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45C775-327E-413E-AC3E-DBC2ED1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A4DE6-AC84-4CA1-9275-40AA07CD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30B51-C7D5-4D50-A27F-6A649C1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DF323C-EF62-4829-BFF3-BD4925F8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97F94F-6E4B-422B-A786-D82B8667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B690C-59C9-4F5E-8DF2-A79CCF30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EBA87-B299-4BBB-905B-B79B3750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301567-2E42-40D3-A69C-35EE1B9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146818-44B1-40A0-A568-BD5A8E1C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2A4346-4D79-491C-80F3-915BEC04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992AEF-F74B-41FC-8935-C7E3CFA8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25A109-9276-435A-B137-CEA8BD1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2513-4FA4-4344-A643-B942824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93EFA-A775-456C-A86C-0363F82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CDF4BB-145E-4CDF-A9FD-93C8EFF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49261-F07F-4B76-B03F-B3224C4D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23085B-B85C-4D88-B2A7-5E7CDAA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FCE461-5FE3-47E7-A808-2CD73FA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92DE07-ADD9-4730-AF15-98859B6E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38F435-0241-46CA-B2FF-CB89752A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3BA85-CB3A-455F-8867-A9D260DC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BCE9ED-CAC9-4DBD-BCEB-B34C8C6E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F4F2B-5C19-456A-B437-FCCEC0A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2E69-A4FA-4050-8AD7-832DA918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838C77-6B23-4EBE-8A21-1C19699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2B8F7A-12F3-4DF2-AD93-0116F1F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5B1C77-D5D7-4F19-BC36-3A155791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106C4-5F0D-4C95-8EA7-E2057A7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04A8A1-CCA9-4B09-9406-A6195CB6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DAC81E-8026-4DB5-B913-34AF3858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E7989F-6092-4110-890B-9CA8EDBF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A9CC66-6827-4D8D-8688-409A2A32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F4DAF8-6F19-4900-B504-852C4E57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17A35-1708-4DAD-83DE-C6D56398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F300-D457-49B7-8501-D4A54904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D536F0-CBBC-44CE-9371-F348BA1F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737626-8AC5-4DF4-BF1D-8BC8328D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1FFDB-A12F-4FC5-B321-FCD3F16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43FFDD-354E-4D06-9D3B-D41D4B06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2246F9-E5CA-48C8-9F2A-AF0BCA6C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375210-8E15-48AE-AF3F-4F3A546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DCC4F-FC32-42C5-B044-5ADCB38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BC72F-59E5-460C-BDAF-D23A987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000576-C111-4192-8230-3AE61E1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98B334-28CC-4FAB-871A-5402D120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444-9CCE-4DF8-99E4-C5457512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7534-A5AC-4AF3-AFF8-9BB1C58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3AA712-202C-4208-8298-B42B3195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CE604C-0C7F-475F-8A91-94883FCB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ED336D-7C57-44F0-8511-6B4AF45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8FDBE0-46F7-4B5F-BB39-5007DE4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290861-335B-4B63-8EAB-14B0D134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CF3593-95C7-447C-9837-C9E218A6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B1EFED-D4EE-4753-BD93-6DF9819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561304-84F8-46A3-9C2D-86460E5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B8EA76-47A1-4263-ACAB-F42364F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E03780-E06D-414F-808E-33B344B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7814-8760-4F4D-A0F8-5E609F6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69125A-5F60-4545-9597-7B50F53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EECE12-5CE4-44A9-B07A-2C254F1A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90720D-5E28-4805-A9BD-75EF3883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0EDFAC-8618-448C-9758-0B50245F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E7A1AF-119F-4734-B162-C4C7B3B5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B6C8C2-FE16-4DD1-9906-D55CE5B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044A62-544E-46D3-8122-6054DF1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C38A35-136A-4816-8CF8-0FDA613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1FA3EB-7A50-4AE2-A594-C1E9743D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FC36D5-413E-45CC-A3BE-BFD351E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85E3A-F5A8-455B-BBB8-4AAE064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24712-A3F0-41D7-8E50-996B73A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C606E7-925D-4CF9-AD79-5BB55F2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A5D491-D1A4-4BC6-829C-4406406A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2B41B0-7E3A-453D-8290-62E30C90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C90F1C-0930-4426-843E-98581694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094E1C-C67B-482B-99AD-539BE0C9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027459-6539-4FAC-83A2-34D738B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F23BF2-FAA9-4CA5-9B30-E279338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1AD50E-F295-4A9B-9DB0-A4EEAE3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59FA31-B7C5-4909-A845-9D0A361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68F9-F513-4FE9-AFD0-2E5C5B7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62E36F-C882-4990-BB11-655FCF2C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1BDD50-5428-4707-91FC-6FB9776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957A00-FF08-40A7-91B9-A99DDE9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93124-F147-4C71-95B8-3355694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BF83C5-4353-4FF8-B9FF-FF3C4A67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8C36B8-C4B2-4077-B482-EFC7AF3D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4F0C6F-AE28-487D-A53F-30865882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62D7CC-074C-4C5B-B4EF-89112353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87A69C-6C9C-4366-9E99-7FD36973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F50AD7-A481-4BDE-AB4E-17B1B74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1872-7BD5-4B83-B58C-C58A68A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5ADEE1-5424-4E0C-9581-EFB3E059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724E95-39E0-4D66-A4F4-B377BC55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0F241-FE77-4164-A041-0AF2C49E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8AA79F-9136-46F7-AC88-47EB2F56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A2CEE-C483-4020-AE84-BEABAF5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297BBD-BB08-451D-AF84-20CD3EE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3D21D3-9346-4980-A330-57D645B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DA9CFD-0D68-4873-9C27-58B48E79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DBBCE1-9D9F-4FD8-A290-EDEB7329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E685F5-FDAB-4377-865E-369DE6BE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796F-A5B6-4FE6-9CCC-9B21B1D1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4E8FA1-0FDE-442B-A551-EB73085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B1F475-F185-4933-A1FD-4CE3B89B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852807-8C4F-441C-9898-2A323ED7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EE2068-0865-42D4-8BE4-039F747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412579-8AA6-4090-A19F-A4A69B92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450DCA-5465-4652-A756-AF0A483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2A3652-F38D-4BC9-9C97-A460AE6C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A0EA4E-02DC-47EB-B196-CF55CA29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A2DA4D-D4E8-4010-A960-B8E4D7C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2AD4F1-CC16-44DC-985D-EDD8E25B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8605-FD9A-485C-AAAC-E69D2077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E3526A-908D-4693-B878-FC898662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1CD5A-1FB9-4FEB-B897-F53D53E0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A911ED-EE3F-4256-AB6B-170E38B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F2C81-4978-4C2E-996D-6F058FDA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68B5F2-898A-4C5A-AAB7-E0461344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1E0F5-32E5-4935-9281-36D198C2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89EE0A-F9A3-41B3-8565-30F16482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7B3C36-2936-4247-BD34-E2D8D71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C35C8A-C4F1-4627-AF88-C88E2D3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73FD96-92AC-44C4-8D1F-106B93AB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4982-CE59-41AE-8133-C0E88753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1A7D3F-74AA-4014-A82D-5D20DD8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64A680-1594-446E-A734-50F958E0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E40F72-9283-4829-987C-B3AB5744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777F7-506F-4464-9C37-396C70D7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47EB-D5D6-4A1A-A1A8-CB34891C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764-B76F-414E-B5FD-1D84A0F8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9122F-3200-41F6-8053-43BBADD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13CFB-588F-4554-8348-D863CB2B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19CD-09DC-444C-808E-751EE5D4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28BD6-AA44-4745-BD35-6CC6247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F91E-DB77-49CE-B305-654BAD42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718E-380A-43B0-89B2-B002E70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42A0-2F19-44A5-921A-72D1D65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BE07-914D-4F5E-A0B5-DCA297FD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849F-AC44-4824-A17D-7F907580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4BA76-1096-4AE1-8D00-281C1A66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8FB-1827-4980-B962-C8EFCF0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948E-0211-4F96-BB03-1E031271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F509-721F-47B9-B0C3-62B5C37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3568-2A3C-4E5E-B90C-F78E67E4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3939-F13E-450F-82DA-94F6E435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1CDE-F384-4D56-ADED-2878918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8532-CAB6-4BA5-9366-D64D5F7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0357-AAD9-46A1-A126-4C0F810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2025-C0DB-4201-9DAF-1B95E39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AAC8F-43DE-47C6-AFCB-EAF632D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3FDB1-036C-471D-915A-92A57893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F38-EEC8-4464-8EE4-E527BD9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75EC8-C795-4E42-B56C-57DB3D76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8F605-36E2-4711-87EE-D99B2707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FD00B-E6E3-4FD0-A3E3-C9D51357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33BB-CC2D-4E62-8809-E71BACC2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5BC4-3205-4C08-B7BC-D43B15D0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12F2-9AE2-4494-8A7F-FFCC5BC4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26CC-4B8B-4E5A-9A46-570930B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8E78-12AE-4853-BCF0-14F8F92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D2C6-D008-44C1-9B5D-4DB3A79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5682B-29B2-4263-A7F8-A5B3D88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742-200B-4DEF-88C7-CCEA9158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90D6-368C-4936-B350-B8630136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16B25-6E2D-4BE3-A38E-C2CB809F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7B9C-A4B9-4891-A7F0-1C169353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C4055-4D2F-459C-AAB2-D71D8937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CF456-C7F1-4768-A50F-12B1E88F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76FF7-B875-458D-982B-EBF722E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6EB4-9E2A-4188-BD6B-712E66D3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C8A8D-CE27-46FD-A74F-A1B87BF5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D852-EAC0-444B-8794-4501DC80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C7FE-9873-4469-9842-F25F099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E72-B2BF-44B7-A040-56417F8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5F490-76FF-441C-8831-9FCC9E2C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9041B-1E67-473F-B607-9B98FE6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ED40-3CF7-4BBB-9548-50A4A6C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75E75-98AC-4854-BA52-F24319CF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4BBB9-926C-4572-BDD4-C6FE42FA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32930-1FFE-44CF-B1F2-D5A14F03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D0B8C-5CAE-42C9-B662-F592F68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9108A-1BE7-44F9-B514-3E5228DD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65156-EBED-4FE3-A40D-C383823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E2650-B695-44B5-B731-8714456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2C4-551E-4748-B877-96B1DC5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5D78-BD75-4667-99CC-1A1CB12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2F95B-B468-4EBE-AC41-83C7BE71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48336-F4AC-42BB-9E5F-6196A6B8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9214-F959-458D-BA33-C6F322D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CD279-7EA5-49C1-A81C-90AC3847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3747-B549-4925-8FF2-A78B1ABD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11CB6-0AAB-4598-A52B-2D8C6C1B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1DB4-983B-403F-A748-0E8470E7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500DB-4609-4AD0-8B1A-EA43C701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9158-6960-44D2-9140-DF72E7B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5630-9175-4DD3-92F9-220783E25F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91F-E821-4614-B1E3-3796BAC18A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2924-DA87-4CC3-8C26-11C52B7B77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81D6-70E7-4D79-A5AC-C1829A49B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D30A-3B66-4027-8A7F-B4F52D16A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3783-02E3-4A62-B810-5EF994F96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E91-7FB3-4FB8-9531-60D972C22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FCF3-6737-4BD2-8C0E-FE99060BB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EE73-734C-473D-B627-86884CB58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AAED-24C8-456B-A0BC-17B936BAF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17E-2A56-47A7-852B-2FB21A685F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C8C-E030-4010-A012-282E8EA0A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654E-3D59-42DA-AA4A-199B9EA360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AB14-5D81-4081-8035-65A3EF9AB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3CB0-8070-41F8-8E7B-ED2FE9A11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1D5-9D99-4328-8E49-B7DF627E76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5A54-8846-4164-A644-3559EC7A1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E5D-EA1F-40A4-BD69-7B8EA68AF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2C70-870B-40AC-9A26-62D5031A3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21FC-67FC-40BA-91F3-CA4F4CA9C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6CE0-A944-43F4-943E-FD770F145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359-5363-473C-8A11-B5B136CB9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93C3-B33A-4064-B49E-F78B0E917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8C3A-B162-4A71-8897-E1016C5A97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800-431E-4F00-80B2-4803FDF4C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4DD-A113-4A5D-8D9E-D4DCCB2B9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94B7-A4C9-4FD0-874D-048CFC178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BFB4-1D35-40F5-82F2-A84076F15B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F27A-7ED4-4FF6-AB57-835B33BBBB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B3C1-B24C-43FE-B2E5-AA0E46936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06F-367B-48F7-9231-7C0A0E262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1C04-E46C-4F92-B640-B449B135D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2061-55AD-438C-8530-5BDD9A6742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BD9-8867-4E48-99CC-7A1CAF738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53AE-0942-4AB7-9A15-0563E0E5C8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88A6-1771-4FDE-94D2-4B0F00AF8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7954-A3D7-4CAC-ABED-97D12E18BC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5115-79EC-45F0-8C07-8CD095BF8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11E0-9D35-4E69-8850-02D976CCD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E998-A9AD-49FA-B440-AC4AA595BC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500-E6A9-45CE-9152-0B0CF2B87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D186-45A8-4658-B57F-5E9B6EE6A3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BDF2-87CB-4F17-836E-6FAA697EA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F14B-274D-4B56-B7EB-8E5007CAC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F3BC-CC6A-47FE-AD03-21B27B9444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B87-E6E8-4778-BF36-E275F9854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D01C-086A-4A4C-B7C7-4FBED9799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F816-7D45-448E-A304-A564595C3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FED-7AE5-40EC-8663-34E3F63229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D6E6-9C75-45FB-B5C8-64A48F184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789120" y="1246320"/>
            <a:ext cx="7591320" cy="12668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622520" y="3284640"/>
            <a:ext cx="56959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382680" y="863640"/>
            <a:ext cx="8124840" cy="5638680"/>
          </a:xfrm>
          <a:prstGeom prst="rect">
            <a:avLst/>
          </a:prstGeom>
          <a:ln w="0">
            <a:noFill/>
          </a:ln>
        </p:spPr>
      </p:pic>
      <p:sp>
        <p:nvSpPr>
          <p:cNvPr id="1334" name="矩形 140290"/>
          <p:cNvSpPr/>
          <p:nvPr/>
        </p:nvSpPr>
        <p:spPr>
          <a:xfrm>
            <a:off x="819000" y="2917800"/>
            <a:ext cx="4577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140291"/>
          <p:cNvSpPr/>
          <p:nvPr/>
        </p:nvSpPr>
        <p:spPr>
          <a:xfrm>
            <a:off x="844560" y="3375000"/>
            <a:ext cx="450072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2"/>
          <p:cNvSpPr/>
          <p:nvPr/>
        </p:nvSpPr>
        <p:spPr>
          <a:xfrm>
            <a:off x="692280" y="4264200"/>
            <a:ext cx="4576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3"/>
          <p:cNvSpPr/>
          <p:nvPr/>
        </p:nvSpPr>
        <p:spPr>
          <a:xfrm>
            <a:off x="692280" y="4670280"/>
            <a:ext cx="4576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4"/>
          <p:cNvSpPr/>
          <p:nvPr/>
        </p:nvSpPr>
        <p:spPr>
          <a:xfrm>
            <a:off x="704880" y="5165640"/>
            <a:ext cx="4576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5"/>
          <p:cNvSpPr/>
          <p:nvPr/>
        </p:nvSpPr>
        <p:spPr>
          <a:xfrm>
            <a:off x="743040" y="5648400"/>
            <a:ext cx="4576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6"/>
          <p:cNvSpPr/>
          <p:nvPr/>
        </p:nvSpPr>
        <p:spPr>
          <a:xfrm>
            <a:off x="755640" y="6105600"/>
            <a:ext cx="4576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353880" y="873000"/>
            <a:ext cx="8182080" cy="54673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870120" y="181296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819000" y="228276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8"/>
          <p:cNvSpPr/>
          <p:nvPr/>
        </p:nvSpPr>
        <p:spPr>
          <a:xfrm>
            <a:off x="704880" y="272736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9"/>
          <p:cNvSpPr/>
          <p:nvPr/>
        </p:nvSpPr>
        <p:spPr>
          <a:xfrm>
            <a:off x="755640" y="323532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70"/>
          <p:cNvSpPr/>
          <p:nvPr/>
        </p:nvSpPr>
        <p:spPr>
          <a:xfrm>
            <a:off x="743040" y="365436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71"/>
          <p:cNvSpPr/>
          <p:nvPr/>
        </p:nvSpPr>
        <p:spPr>
          <a:xfrm>
            <a:off x="704880" y="4137120"/>
            <a:ext cx="4614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2"/>
          <p:cNvSpPr/>
          <p:nvPr/>
        </p:nvSpPr>
        <p:spPr>
          <a:xfrm>
            <a:off x="819000" y="4594320"/>
            <a:ext cx="6863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3"/>
          <p:cNvSpPr/>
          <p:nvPr/>
        </p:nvSpPr>
        <p:spPr>
          <a:xfrm>
            <a:off x="730080" y="5076720"/>
            <a:ext cx="6863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74"/>
          <p:cNvSpPr/>
          <p:nvPr/>
        </p:nvSpPr>
        <p:spPr>
          <a:xfrm>
            <a:off x="920880" y="5572080"/>
            <a:ext cx="47037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8241" descr=""/>
          <p:cNvPicPr/>
          <p:nvPr/>
        </p:nvPicPr>
        <p:blipFill>
          <a:blip r:embed="rId1"/>
          <a:stretch/>
        </p:blipFill>
        <p:spPr>
          <a:xfrm>
            <a:off x="282600" y="887400"/>
            <a:ext cx="8172360" cy="338148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8242"/>
          <p:cNvSpPr/>
          <p:nvPr/>
        </p:nvSpPr>
        <p:spPr>
          <a:xfrm>
            <a:off x="743040" y="2930400"/>
            <a:ext cx="52369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3"/>
          <p:cNvSpPr/>
          <p:nvPr/>
        </p:nvSpPr>
        <p:spPr>
          <a:xfrm>
            <a:off x="781200" y="3400560"/>
            <a:ext cx="52369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4"/>
          <p:cNvSpPr/>
          <p:nvPr/>
        </p:nvSpPr>
        <p:spPr>
          <a:xfrm>
            <a:off x="857160" y="3857760"/>
            <a:ext cx="66852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7217" descr=""/>
          <p:cNvPicPr/>
          <p:nvPr/>
        </p:nvPicPr>
        <p:blipFill>
          <a:blip r:embed="rId1"/>
          <a:stretch/>
        </p:blipFill>
        <p:spPr>
          <a:xfrm>
            <a:off x="317520" y="882720"/>
            <a:ext cx="8153280" cy="415296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7218"/>
          <p:cNvSpPr/>
          <p:nvPr/>
        </p:nvSpPr>
        <p:spPr>
          <a:xfrm>
            <a:off x="755640" y="1876320"/>
            <a:ext cx="475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19"/>
          <p:cNvSpPr/>
          <p:nvPr/>
        </p:nvSpPr>
        <p:spPr>
          <a:xfrm>
            <a:off x="717480" y="2359080"/>
            <a:ext cx="475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0"/>
          <p:cNvSpPr/>
          <p:nvPr/>
        </p:nvSpPr>
        <p:spPr>
          <a:xfrm>
            <a:off x="692280" y="2778120"/>
            <a:ext cx="475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1"/>
          <p:cNvSpPr/>
          <p:nvPr/>
        </p:nvSpPr>
        <p:spPr>
          <a:xfrm>
            <a:off x="717480" y="3247920"/>
            <a:ext cx="475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22"/>
          <p:cNvSpPr/>
          <p:nvPr/>
        </p:nvSpPr>
        <p:spPr>
          <a:xfrm>
            <a:off x="806400" y="3705120"/>
            <a:ext cx="475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7223"/>
          <p:cNvSpPr/>
          <p:nvPr/>
        </p:nvSpPr>
        <p:spPr>
          <a:xfrm>
            <a:off x="844560" y="4226040"/>
            <a:ext cx="5199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7224"/>
          <p:cNvSpPr/>
          <p:nvPr/>
        </p:nvSpPr>
        <p:spPr>
          <a:xfrm>
            <a:off x="768240" y="4645080"/>
            <a:ext cx="5199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6193" descr=""/>
          <p:cNvPicPr/>
          <p:nvPr/>
        </p:nvPicPr>
        <p:blipFill>
          <a:blip r:embed="rId1"/>
          <a:stretch/>
        </p:blipFill>
        <p:spPr>
          <a:xfrm>
            <a:off x="371520" y="992160"/>
            <a:ext cx="8172360" cy="461952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6194"/>
          <p:cNvSpPr/>
          <p:nvPr/>
        </p:nvSpPr>
        <p:spPr>
          <a:xfrm>
            <a:off x="819000" y="3019320"/>
            <a:ext cx="7624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6195"/>
          <p:cNvSpPr/>
          <p:nvPr/>
        </p:nvSpPr>
        <p:spPr>
          <a:xfrm>
            <a:off x="907920" y="3489480"/>
            <a:ext cx="7624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6196"/>
          <p:cNvSpPr/>
          <p:nvPr/>
        </p:nvSpPr>
        <p:spPr>
          <a:xfrm>
            <a:off x="704880" y="3946680"/>
            <a:ext cx="7624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6197"/>
          <p:cNvSpPr/>
          <p:nvPr/>
        </p:nvSpPr>
        <p:spPr>
          <a:xfrm>
            <a:off x="870120" y="4429080"/>
            <a:ext cx="75736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6198"/>
          <p:cNvSpPr/>
          <p:nvPr/>
        </p:nvSpPr>
        <p:spPr>
          <a:xfrm>
            <a:off x="895320" y="5280120"/>
            <a:ext cx="21765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图片 135169" descr=""/>
          <p:cNvPicPr/>
          <p:nvPr/>
        </p:nvPicPr>
        <p:blipFill>
          <a:blip r:embed="rId1"/>
          <a:stretch/>
        </p:blipFill>
        <p:spPr>
          <a:xfrm>
            <a:off x="563400" y="865080"/>
            <a:ext cx="7915320" cy="5381640"/>
          </a:xfrm>
          <a:prstGeom prst="rect">
            <a:avLst/>
          </a:prstGeom>
          <a:ln w="0">
            <a:noFill/>
          </a:ln>
        </p:spPr>
      </p:pic>
      <p:sp>
        <p:nvSpPr>
          <p:cNvPr id="1370" name="矩形 135170"/>
          <p:cNvSpPr/>
          <p:nvPr/>
        </p:nvSpPr>
        <p:spPr>
          <a:xfrm>
            <a:off x="1568520" y="784080"/>
            <a:ext cx="6062760" cy="278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5171"/>
          <p:cNvSpPr/>
          <p:nvPr/>
        </p:nvSpPr>
        <p:spPr>
          <a:xfrm>
            <a:off x="806400" y="3616200"/>
            <a:ext cx="7701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2"/>
          <p:cNvSpPr/>
          <p:nvPr/>
        </p:nvSpPr>
        <p:spPr>
          <a:xfrm>
            <a:off x="806400" y="4086360"/>
            <a:ext cx="7701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3"/>
          <p:cNvSpPr/>
          <p:nvPr/>
        </p:nvSpPr>
        <p:spPr>
          <a:xfrm>
            <a:off x="831960" y="4568760"/>
            <a:ext cx="77007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4"/>
          <p:cNvSpPr/>
          <p:nvPr/>
        </p:nvSpPr>
        <p:spPr>
          <a:xfrm>
            <a:off x="844560" y="5013360"/>
            <a:ext cx="7434360" cy="66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5175"/>
          <p:cNvSpPr/>
          <p:nvPr/>
        </p:nvSpPr>
        <p:spPr>
          <a:xfrm>
            <a:off x="704880" y="5877000"/>
            <a:ext cx="77007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4145" descr=""/>
          <p:cNvPicPr/>
          <p:nvPr/>
        </p:nvPicPr>
        <p:blipFill>
          <a:blip r:embed="rId1"/>
          <a:stretch/>
        </p:blipFill>
        <p:spPr>
          <a:xfrm>
            <a:off x="298440" y="793800"/>
            <a:ext cx="8115480" cy="552456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34146"/>
          <p:cNvSpPr/>
          <p:nvPr/>
        </p:nvSpPr>
        <p:spPr>
          <a:xfrm>
            <a:off x="768240" y="4556160"/>
            <a:ext cx="55292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7"/>
          <p:cNvSpPr/>
          <p:nvPr/>
        </p:nvSpPr>
        <p:spPr>
          <a:xfrm>
            <a:off x="717480" y="5038560"/>
            <a:ext cx="5300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8"/>
          <p:cNvSpPr/>
          <p:nvPr/>
        </p:nvSpPr>
        <p:spPr>
          <a:xfrm>
            <a:off x="806400" y="5864400"/>
            <a:ext cx="55292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3121" descr=""/>
          <p:cNvPicPr/>
          <p:nvPr/>
        </p:nvPicPr>
        <p:blipFill>
          <a:blip r:embed="rId1"/>
          <a:stretch/>
        </p:blipFill>
        <p:spPr>
          <a:xfrm>
            <a:off x="719280" y="878040"/>
            <a:ext cx="7705440" cy="5381640"/>
          </a:xfrm>
          <a:prstGeom prst="rect">
            <a:avLst/>
          </a:prstGeom>
          <a:ln w="0">
            <a:noFill/>
          </a:ln>
        </p:spPr>
      </p:pic>
      <p:sp>
        <p:nvSpPr>
          <p:cNvPr id="1381" name="矩形 133122"/>
          <p:cNvSpPr/>
          <p:nvPr/>
        </p:nvSpPr>
        <p:spPr>
          <a:xfrm>
            <a:off x="781200" y="885960"/>
            <a:ext cx="74469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3123"/>
          <p:cNvSpPr/>
          <p:nvPr/>
        </p:nvSpPr>
        <p:spPr>
          <a:xfrm>
            <a:off x="768240" y="1355760"/>
            <a:ext cx="1401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4"/>
          <p:cNvSpPr/>
          <p:nvPr/>
        </p:nvSpPr>
        <p:spPr>
          <a:xfrm>
            <a:off x="1758960" y="1800360"/>
            <a:ext cx="5783400" cy="26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3125"/>
          <p:cNvSpPr/>
          <p:nvPr/>
        </p:nvSpPr>
        <p:spPr>
          <a:xfrm>
            <a:off x="755640" y="4556160"/>
            <a:ext cx="7548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3126"/>
          <p:cNvSpPr/>
          <p:nvPr/>
        </p:nvSpPr>
        <p:spPr>
          <a:xfrm>
            <a:off x="730080" y="4975200"/>
            <a:ext cx="75488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3127"/>
          <p:cNvSpPr/>
          <p:nvPr/>
        </p:nvSpPr>
        <p:spPr>
          <a:xfrm>
            <a:off x="641520" y="5521320"/>
            <a:ext cx="4462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2:06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